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987AA8-6870-4599-9DC7-135BEFC0EA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A1E475-F3A7-45D9-B21D-98BA88AB7D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EE53BA-9512-4C95-8E62-1E035DDF57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15633-D393-45D0-AC3F-F8305A9F25E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33681-BC2D-4C60-B739-2C10DB1842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7E5CCB-9FD2-4272-9AA1-7A059524F2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AA780-2B55-455C-8FE2-74B4C14748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6B3F2-A119-4845-A132-9CCDD48AB6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6D00D-BC2D-4A08-8A43-974589D5EA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6916D-2BDC-42D4-880A-ED139F30B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AAD6-89DE-4688-8FE5-87D320E188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D643B-70F6-4707-B76E-B9BDA499AC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F5510-CEA5-407B-AF63-36727D302CB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7B78-193C-4859-8001-5D96549ECF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56CC5-2E8E-41DB-ADE2-B5189AEC99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5EE9-DE13-49BA-8194-F715E25060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BF8A-8C7E-4D59-B23C-6A123AD9D11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5266-920A-4DE5-9D48-6A42FFFA74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2E38-109D-4F07-86F4-2EB805B6225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DC8A-55F0-4A5D-95E7-2ACE18409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1270-566F-403C-90BB-98881F1E9C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D997C-A20C-4FA6-8DDD-DA2E2B9030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2323B-F1A5-4FDB-B676-6D43B34651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CF8C4-6B3E-45B6-995A-F9A8A7BDB9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13FB7-92F0-4C3A-8DC4-1931CBCA75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B4CE9-A4EA-4482-89EE-F352F1CA4D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7A845-712F-4F86-B1CA-C0742A9A60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6FB79-C568-4DC5-B22F-E63BE9C2D2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41D5F-684A-4AE7-8306-AE353932E1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56B7C-7E36-4841-AB58-704BFB790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4BCB-1950-4B47-A44F-7D4752743C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BABC7-E42D-4AAF-8B28-E754D895255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74E36-B89D-49C3-BDFF-5E7FEB9472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FEA33-428C-48BA-BDD1-DABCC6EAF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1EC6-582B-4E98-82C7-8EB6832198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8C46-743E-4A2E-8113-45B36536E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3671-7ADC-4C8B-ADAB-5D6BAA419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CD8D-65A4-477C-AAF8-8F86B16FD4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123C-2B08-497D-B05F-C7F9121301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ADC3-BB8A-4507-B5F5-E6E67144D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F0C5-A136-4174-8D30-71DC833AB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6BBA-61F4-4F97-BD5E-582BD837A7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5CC0-5359-40FE-9C1A-9D50FE25D1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48A1-E4CA-4AF7-884A-9480438E8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4776-196A-4FEF-ADC0-A914D04E00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CCE77-1B72-4FD4-9446-DAAFD99545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7D02-0948-4C27-B39F-78687D797B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F123-547F-4F2D-BAAD-078A2FB3B7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01B62-8668-4D0E-9DE3-E9FBA95953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CB597-4C51-4FCE-84F8-329B33C37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CC08-CFFC-4A8B-B38F-DD08F4FB8B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DE32-0F8F-4E7E-B243-5CE479069A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A9C5-331B-4313-B6AE-E9C88B8C07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C433-5097-4569-997E-99C21D2E0C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DE74E-FBBA-4D48-9D69-24EB6230C5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6DFA-5871-49B7-931F-4A5A57F732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B2228-ED71-404B-9DF7-27DA3410B9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217-4206-4B27-BB50-21D0946EBF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20A-C894-4142-8448-1429263A37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929-6E9D-4BFA-835E-0EDF99C43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6FD8-B457-4B29-BD13-B855132CE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CE3-99DD-4E5F-BB94-270C1C3122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09C-529D-484B-AE2B-55BF487A05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6A8-DBE6-4D47-87B8-BD665F1CD1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AFE-72A8-4ABB-A381-47106C9988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2AB-362D-4C0A-8E9D-B6C4A60DF5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1ECA-9F4D-427A-8F3B-EAA0786C41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0244-320F-4B57-A44E-EF05CE5615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FB4-802E-4441-B959-3DD62EDAB1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C6738-E59C-4C9F-87B1-B0D9DB815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9C4AF-67E7-40A8-9A25-55B437A4B6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61DCC-DAED-4D06-9EF0-0D85E75F54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FB647-8210-4DF4-9338-AC3453DD80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2DA03-CA34-48FB-809B-FE6F314F5B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9F977-0727-43F3-A7C7-D89B17017A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AB264-2BC1-46DE-9589-E344AB7451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C0002-4ABC-40B4-A735-C1D103D968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F3B59-3583-4A04-9B2E-607A02742F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4137C-6F11-40E7-96E3-51846D51FF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2B0AD-9282-4DC1-9E1E-34F670F3B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8D5E0-8A24-4AAD-9C26-E95D058AF9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11736-C025-4904-9180-D0E50C3DA4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240DB-9DDF-4F06-B248-E0D9D961D6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D6EEE-82B5-4546-93ED-F1DE43502F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D4B43-0FE2-4D9E-BD9F-DF2DE61401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04BAF-59B4-4A37-8C39-3A4B9C7EC4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9B8B8-1F4D-465D-9062-E0ED71E2FC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9E9EC-8FB9-468E-A306-22E3F00750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BAF21-8312-4F04-9472-D1EC023B0D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FC35D-6C9A-4515-B79F-D4707859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95018-ADB3-4A77-96DF-D0F4BD358A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74889-5DDB-4BA9-897C-1B145914AA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BD513-154C-4816-846E-99B795A683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54AD-A576-4513-A462-D834842102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0A1D-129F-41FC-A40B-1908D5ADA9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512C-42D7-4416-A22B-C1E24F40D7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0C23-E997-40F5-9814-AF9BCC1C3F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6010-B055-412C-A7C0-A7E56B651F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60C6-EF86-4150-A721-2E1FD3B462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0B51-FBE7-4337-A885-EDB6824A4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823E-BF95-4668-934A-550F0FE7D5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0DBDF-6A24-4BB8-8D82-8ACEEE0EC3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6CF2-2802-401E-AEC9-323E325EB3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D2F0-8342-470C-9FAB-FDA72420A0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16C1-3C71-4963-B9EC-DD33FF1F82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14647-F2F4-4535-810B-384C268D20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3B902-80BF-4DBB-8672-EA4A7746E5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06B4A-3A7F-4185-8C91-BF1BC03EC8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72069-88B4-4FBA-AE07-13F7F30AAC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51B01-39D1-4CB9-B633-E1431EAF1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55721-44AA-40C1-89F8-FF4834F072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3357E-D0A2-4B4E-BDCE-5D0AE73C2C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C815B-4040-4D1C-85D1-025AEDD28B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A888B-8E00-4E3B-B344-C355C37322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E1BFF-211D-4B75-A260-EDE23A29D9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85CC1-9AC3-4D7B-B583-4BB3ADD73D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AE739-32EB-48D3-8DE2-A21C72AC09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A2994-6686-40B6-A975-E7B5515E9E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8693C-8E5C-40D2-B196-7A23F53E38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5AE51-40A1-4719-B487-478598407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32E-C37B-4BA0-AC08-C55C2B05EBA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CF9-F4D4-4E31-BA26-4D2733180C7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2637-80CD-4C87-9F31-8DE21AA4777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38F3-860A-43B3-AF44-15BA86B909D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845-1989-460A-B188-708B8030F0E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272-D56C-4A72-88A6-6BEC0CD4C1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AF8-9EE5-474B-9990-AF8FE20EE0B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BFF6-B56D-4743-883F-67E016C4B5A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820-05F6-4D5F-A339-82407895510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7306-5E42-4B34-8107-5B8641575E4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Realtà aumentata e mobile experien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Davide Spallazz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2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6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539640" y="3789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corso introduce gli studenti nel mondo della mobile technology e dei servizi ad essa connessi, fornendo contributi teorici e conoscenze di base nel design di un’esperienza mobil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approccio è duplice: alle lezioni teoriche si affianca lo sviluppo di progetti che dovranno valorizzare sia le competenze acquisite sia le capacità progettuali degli studenti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468360" y="1268280"/>
            <a:ext cx="83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approfondire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log 2013-2014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arandme2014.wordpress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log 2012-2013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arandme2013.wordpress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log 2011-2012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arandme2012.wordpress.c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vide.spallazzo@polimi.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oscenza delle principali teorie a supporto della progettazione di esperienze mobil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tà di seguire una metodologia e un processo strutturato per lo sviluppo di progetti ambientati nello spazio ibrido tra reale e virtuale attraverso le sue fasi principali (analisi, sviluppo creativo, implementazione e test)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zazione di prototipi funzionanti che traducono in pratica gli scenari ipotizzati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68360" y="126828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corso prevede l’obbligo di frequenz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valutazione sarà basata sull’esito delle prove di gruppo (progetti) e della prova individuale (scritto/orale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 casi eccezionali è prevista una diversa modalità d’esame per i non frequentanti: esame individuale scritto + oral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ima esercitazione | Creare un’esperienza mobile didattica per il Museo di Storia Naturale di Mil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7920" y="3429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4746600" y="3429000"/>
            <a:ext cx="4378320" cy="30416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539640" y="305928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adMapp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| Daniel Gamarano, Marco Mariani, Gaia Menchini, Sara Scotti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0" y="3429000"/>
            <a:ext cx="471636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ima esercitazione | Creare un’esperienza mobile didattica per il Museo di Storia Naturale di Mil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539640" y="3059280"/>
            <a:ext cx="83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| Lesley Ann Culla, Laura Di Filippo, Chiara Frisia, Maia Golan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2" name="Picture 5" descr=""/>
          <p:cNvPicPr/>
          <p:nvPr/>
        </p:nvPicPr>
        <p:blipFill>
          <a:blip r:embed="rId1"/>
          <a:stretch/>
        </p:blipFill>
        <p:spPr>
          <a:xfrm>
            <a:off x="0" y="3429000"/>
            <a:ext cx="2340000" cy="29973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2354400" y="3429000"/>
            <a:ext cx="2361960" cy="302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3"/>
          <a:stretch/>
        </p:blipFill>
        <p:spPr>
          <a:xfrm>
            <a:off x="4716360" y="3429000"/>
            <a:ext cx="442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a esercitazione | Gioco mobile urbano per sensibilizzare su temi sociali o tabù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539640" y="3059280"/>
            <a:ext cx="835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La Compagnia dell’Ombrello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| Sara Bianchini, Laura Mor, Valerio Princigalli, Martina Sciannamé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1"/>
          <a:stretch/>
        </p:blipFill>
        <p:spPr>
          <a:xfrm>
            <a:off x="701640" y="3425760"/>
            <a:ext cx="77407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a esercitazione | Gioco mobile urbano per sensibilizzare su temi sociali o tabù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539640" y="3198960"/>
            <a:ext cx="835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La Compagnia dell’Ombrello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| Sara Bianchini, Laura Mor, Valerio Princigalli, Martina Sciannamé (ph. L. Berni)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Picture 2" descr="LabFoto185001.jpg"/>
          <p:cNvPicPr/>
          <p:nvPr/>
        </p:nvPicPr>
        <p:blipFill>
          <a:blip r:embed="rId1"/>
          <a:stretch/>
        </p:blipFill>
        <p:spPr>
          <a:xfrm>
            <a:off x="0" y="3502080"/>
            <a:ext cx="4653000" cy="3095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LabFoto184994.jpg"/>
          <p:cNvPicPr/>
          <p:nvPr/>
        </p:nvPicPr>
        <p:blipFill>
          <a:blip r:embed="rId2"/>
          <a:stretch/>
        </p:blipFill>
        <p:spPr>
          <a:xfrm>
            <a:off x="4572000" y="3500280"/>
            <a:ext cx="4653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a esercitazione | Gioco mobile urbano per sensibilizzare su temi sociali o tabù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539640" y="3059280"/>
            <a:ext cx="835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.O.C.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| Angelo Garavaglia, Francesca Molteni, Elisa Piazza, Rossana Pinna (ph. L. Berni)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4950000" y="3429000"/>
            <a:ext cx="4227480" cy="3149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LabFoto184972.jpg"/>
          <p:cNvPicPr/>
          <p:nvPr/>
        </p:nvPicPr>
        <p:blipFill>
          <a:blip r:embed="rId2"/>
          <a:stretch/>
        </p:blipFill>
        <p:spPr>
          <a:xfrm>
            <a:off x="0" y="3429000"/>
            <a:ext cx="4761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268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zione 2013-2014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a esercitazione | Gioco mobile urbano per sensibilizzare su temi sociali o tabù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39640" y="3059280"/>
            <a:ext cx="835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Rewind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| Giulia Gubbiani, Marina Rico Sanchez-Mateos, Eloisa Ronchi, Anita Rosti, Ilaria Tabasso (ph. L. Berni)</a:t>
            </a:r>
            <a:endParaRPr b="1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0" y="3416400"/>
            <a:ext cx="4522680" cy="3168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LabFoto184983.jpg"/>
          <p:cNvPicPr/>
          <p:nvPr/>
        </p:nvPicPr>
        <p:blipFill>
          <a:blip r:embed="rId2"/>
          <a:stretch/>
        </p:blipFill>
        <p:spPr>
          <a:xfrm>
            <a:off x="4500720" y="3416400"/>
            <a:ext cx="4643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Davide Spallazzo</cp:lastModifiedBy>
  <cp:lastPrinted>2003-05-08T11:08:41Z</cp:lastPrinted>
  <dcterms:modified xsi:type="dcterms:W3CDTF">2014-07-28T14:27:27Z</dcterms:modified>
  <cp:revision>222</cp:revision>
  <dc:subject/>
  <dc:title>Inserire immagine della locandina, possibilmente in trasparenza e aggiungere Facoltà di Architettura Illustrazione prova di ammissione prof. Silvia Piardi (idem Cedolin)</dc:title>
</cp:coreProperties>
</file>